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0.wmf" ContentType="image/x-wmf"/>
  <Override PartName="/ppt/media/image6.png" ContentType="image/png"/>
  <Override PartName="/ppt/media/Whoosh.wav" ContentType="audio/x-wav"/>
  <Override PartName="/ppt/media/image14.wmf" ContentType="image/x-wmf"/>
  <Override PartName="/ppt/media/GunShot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Applause.wav" ContentType="audio/x-wav"/>
  <Override PartName="/ppt/media/image9.png" ContentType="image/png"/>
  <Override PartName="/ppt/media/image15.png" ContentType="image/png"/>
  <Override PartName="/ppt/media/Ricochet.wav" ContentType="audio/x-wav"/>
  <Override PartName="/ppt/media/Laser.wav" ContentType="audio/x-wav"/>
  <Override PartName="/ppt/media/image13.wmf" ContentType="image/x-wmf"/>
  <Override PartName="/ppt/media/Explode.wav" ContentType="audio/x-wav"/>
  <Override PartName="/ppt/media/image12.png" ContentType="image/png"/>
  <Override PartName="/ppt/media/image11.wmf" ContentType="image/x-wmf"/>
  <Override PartName="/ppt/media/image7.png" ContentType="image/png"/>
  <Override PartName="/ppt/media/DrumRoll.wav" ContentType="audio/x-wav"/>
  <Override PartName="/ppt/media/image1.wmf" ContentType="image/x-wmf"/>
  <Override PartName="/ppt/media/image2.wmf" ContentType="image/x-wmf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E96-71E9-4900-BFE6-87ECAF3B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6DA-6353-41EC-ACEC-13302CE8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1A9-CF15-4580-A893-47129495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8E5-A111-4945-AE31-09701F5D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A402-26BD-4E5A-92F1-1B024EEC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009-B67D-4D3B-AC48-029259F5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A986-E6A7-41C8-8E06-7245D55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F62-5890-4CF7-B159-B5A39711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661-B3BA-4C9F-B477-8F91D82E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D66-B34E-48F9-BADD-36AC43B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2DFA-E6B5-4C8A-A737-63AEFCEF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55A-8E19-4C6F-995E-B77A74BC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571-5F2F-4A30-9158-EF9202B4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0845-6809-46CB-8767-E6AD102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04DD-3C37-44D3-B9C0-860FCA10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345F-9C04-4FE2-A617-DC5D81DE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762D-8E56-449D-BC31-E6A3929C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470-8017-4CC1-A286-1A4F03A8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B7F-6BED-4B90-A327-8294EF2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375-D2A1-4C18-9F8D-CDAFAD39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CAE-3609-4A09-B694-0AFB308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51C-9A49-424C-A71F-CD3A619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AD4-99F0-47B4-A002-C188A3C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691-A8F7-430C-907C-C676489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FCF-A755-4CC6-947F-816CDE5A9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1758-1C98-48E5-92C9-27537F01B6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audio" Target="../media/Ricoche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he Aims and Objectives of Busi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Object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it is one thing to state a mission or a purpos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cc"/>
                </a:solidFill>
                <a:uFillTx/>
                <a:latin typeface="Times New Roman"/>
              </a:rPr>
              <a:t>but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 another to achieve i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o achieve its purpose, a business must have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Ai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goals the business wants to achie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ractical steps to achieve the go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- usually quantified (measurab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cc66"/>
                </a:solidFill>
                <a:latin typeface="Times New Roman"/>
              </a:rPr>
              <a:t>Aims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144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Aims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 business the main aims are usua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Surviva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Profit maximisation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Grow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any businesses have some or all of the following aims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making a prof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goods and services to the local commun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urviv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anding (see ppt on growth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maximising 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mproving quality of produ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mproving quality of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a highly competitive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a charitable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a voluntary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eing environmentally friend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 A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being the airline of first choice in key markets”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63852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Objectives are measurable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a business needs to identify specific practical targets it needs to accomplish in order to achieve its aim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14400" y="4800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These are called OBJECTI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Objectives are quantified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So that success can be easily measured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g British Airways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uld have an objective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to increase sales of air tickets to business passengers by 5% a year in Europe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Aims Vs Objectiv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Aim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 long t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re subje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easily measu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 short t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re obje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asily measu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All Businesses can have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Mission statement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Ai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67940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5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167976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MAR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cc66"/>
                </a:solidFill>
                <a:latin typeface="Times New Roman"/>
              </a:rPr>
              <a:t>SMART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GB" sz="66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specif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measurab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gre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realis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time constrain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7" descr=""/>
          <p:cNvPicPr/>
          <p:nvPr/>
        </p:nvPicPr>
        <p:blipFill>
          <a:blip r:embed="rId4"/>
          <a:stretch/>
        </p:blipFill>
        <p:spPr>
          <a:xfrm>
            <a:off x="2971800" y="48006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8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Evaluating performa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Object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53000" cy="370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0492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ecide ai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74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pecify objec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724280" y="762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ork towards objec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32448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heck performance regular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629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If unsatisfacto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4832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ake corrective 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97180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djust/review objec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522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hange ai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762120" y="121932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3581280" y="914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5"/>
          <p:cNvSpPr/>
          <p:nvPr/>
        </p:nvSpPr>
        <p:spPr>
          <a:xfrm rot="10878000">
            <a:off x="7238880" y="3504960"/>
            <a:ext cx="1146240" cy="1143000"/>
          </a:xfrm>
          <a:custGeom>
            <a:avLst/>
            <a:gdLst>
              <a:gd name="textAreaLeft" fmla="*/ 659520 w 1146240"/>
              <a:gd name="textAreaRight" fmla="*/ 967320 w 11462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 rot="10878000">
            <a:off x="5028840" y="4876200"/>
            <a:ext cx="1219320" cy="114300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 rot="5493000">
            <a:off x="6857640" y="106668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9"/>
          <p:cNvSpPr/>
          <p:nvPr/>
        </p:nvSpPr>
        <p:spPr>
          <a:xfrm>
            <a:off x="1905120" y="525780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5146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ow to check aims and objec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he Aims and Objectives of Busi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he main purpose of a business is stated in a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ssion stat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by reading a mission statement you can usually tell what a business actually doe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crosoft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ll Gates has said that Microsoft’s mission is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aking the internet, combining it with great software and turning that into the most powerful tool of all time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ssion stat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You should be able to tell that Microsoft is involved with the internet, computers and software development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is “to be the undisputed leader in world travel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496040" cy="223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..from this you should know that British Airways operates in the travel marke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ut it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not very cl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bout which type of trave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(except for the fact there is the word ‘Airways’ in the Company name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2"/>
          <a:stretch/>
        </p:blipFill>
        <p:spPr>
          <a:xfrm>
            <a:off x="4037040" y="1828800"/>
            <a:ext cx="192888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8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89584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dcterms:modified xsi:type="dcterms:W3CDTF">2015-07-27T13:02:10Z</dcterms:modified>
  <cp:revision>3</cp:revision>
  <dc:subject/>
  <dc:title>The Aims and Objectives of Businesses</dc:title>
</cp:coreProperties>
</file>